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AAC-2320-4A55-930A-A9284BF4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E13-5E03-4BE9-9C1C-96B04BCB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CF4-6A7D-4E0B-AB28-FD53D295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C1D-4471-4331-9DE2-8ED8E090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AAB5-94DB-449E-9FEC-BD7C2FED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A296-89E2-4E53-875C-6EB7BB4D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8605-C1C0-4723-9221-5AD7A201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00B5-44B0-4EEA-8388-F85B59AC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F932-F605-45B0-9C10-0BC6E65F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A70C-A24F-4192-BFA3-ACDEB563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49F0-098E-41AB-8CF7-9637FB1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AE9-67E6-498F-B7EB-FF9D5E4C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2CF3-E363-4A52-8950-BDC39B44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A374-A83C-45C8-BD18-9508AE73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DA4F-873F-4B29-9E2C-FA852AE6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91AC-E618-499E-B6FB-91015D51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1A81-C8F6-422D-893B-27BD2D4D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927-74BA-4227-9AAB-73EF6835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622-2B78-4D4C-9170-8384A358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3D9-2219-43ED-B8E4-696BAD32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8D2-7FB4-4660-B72D-A2B4879B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E67-89F1-4B9B-ABDA-3BEADBEC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8A3-3639-4410-AE67-98D12C90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1E4-079F-4A0A-B512-31F79B06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EE34-DD0D-4E9C-923A-AB7519B573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EF12-D27C-4544-A2BF-3824769B95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Exceptions and Object Lifetime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9036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owing a Generic Ex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62120"/>
            <a:ext cx="883944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is time, throw an exception if the user speeds up beyond maxSpe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Accelerate(int de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carIsD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{0} is out of order...", pet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+= delt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currSpeed &gt;= maxSpe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sDead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Use "throw" keyword to raise an 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Exception(string.Format("{0} has overheated!"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Name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=&gt; CurrSpeed = {0}", currSpee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319-C6DB-4059-A25A-D7A2A2F6270E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's retrofit SpeedUp() to throw an exception if the user attempt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peed up the automobile after it has met its mak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carIsDead = tru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447920"/>
            <a:ext cx="853416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is time, throw an exception if the user speeds up a trashed automobi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peedUp(int del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carIsDe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Exception("This car is already dead..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114800"/>
            <a:ext cx="883944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ew points of interest…. First of all, when we are building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ustom type, it is always up to us to decide exactly what constitut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exception, and when it should be throw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, we are making the assumption that if the program attempt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crease the speed of a car that has expired, a System.Exception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hould be thrown to indicate the SpeedUp() method cannot contin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23F-D710-4D66-A8FD-64AC4DC787BB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152280"/>
            <a:ext cx="8686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ptions should be thrown only when a more terminal condi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as been met (for example, the inability to allocate a block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managed memory, not finding a necessary file, failing to conn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a databas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ding exactly what constitutes throwing an exception is a desig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sue which must be thou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F55-4235-418A-83EE-A7DAE3ECA89F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0440" y="1015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812880"/>
            <a:ext cx="88394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are calling a method that may throw an exception, w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ke use of a try/catch blo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we have caught the exception type, we are able to invok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members of the System.Exception ty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getting the message, we may wish to log this info to a giv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le, write the error to the Windows event log, or display the messa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the end user or simply dump the contents to the consol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y block is a section of code that is checked for any exception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be encountered during its sco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n exception is detected, the flow of program execution is sent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appropriate catch blo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code within a try block does not trigger an exception, the cat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lock is skipped entirel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443-127B-45CB-99D6-59C7094B69D6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289080"/>
            <a:ext cx="8839440" cy="6314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Handle the thrown excep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***** Creating a car and stepping on it *****"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ar myCar = new Car("Zippy", 20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yCar.CrankTunes(tru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Speed up past the car's max speed t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trigger the excep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yCar. Accelerate(10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\n*** Error! ***"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Method: {0}", e.TargetSit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Message: {0}", e.Messag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Source: {0}", e.Sourc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The error has been handled, processing continues with the next statemen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\n***** Out of exception logic *****"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307-F5F9-4791-A917-F7502498742E}" type="slidenum">
              <a:t>14</a:t>
            </a:fld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argetSite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83808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Exception.TargetS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perty allows us to determ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name of the method that threw the current excep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rgetSite does not simply return a string, but a strongly typ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Reflection.MethodB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666880"/>
            <a:ext cx="868680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\n*** Error! 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Class defining member: {0}"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TargetSite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ing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ember type: {0}", e.TargetSite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ber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ember name: {0}", e.TargetSit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essage: {0}", e.Messag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Source: {0}", e.Sourc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E6F-BD68-467D-96AF-EDBEC2283FF8}" type="slidenum">
              <a:t>15</a:t>
            </a:fld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228600"/>
            <a:ext cx="8686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make use of the MethodBase.DeclaringType property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termine the fully qualified name of the class that threw the err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SimpleException.Car in this cas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Base.MemberType property to identify the type of 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CD7-BF85-4CF1-A614-AFBDE6D6CF71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tack Trace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6253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Exception.StackTra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perty allows you to identif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series of calls that resulted in the excep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447920"/>
            <a:ext cx="86868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Stack: {0}", e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ckTr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32004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ere to run the program, you would find the following l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inted to the console (assuming the application is located under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:\MyApps\Exception directory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4619520"/>
            <a:ext cx="88390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: at SimpleException.Car.SpeedUp(Int32 del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:\myapps\exceptions\car.cs:line 65 at Exceptions.App.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:\myapps\exceptions\app.cs:line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E6E-45F8-4696-8973-30A5E2AB5FD2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5076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lpLink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57200"/>
            <a:ext cx="876312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elpLink property can be set to point the user to a specific UR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r standard Windows help file that contains more detail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efault, the value managed by the HelpLink property is an emp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ing. If you wish to fill this property with a relevant value, w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ed to do so before throwing the System.Exception ty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s the relevant update to the SpeedUp() metho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373560"/>
            <a:ext cx="876312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carIsDe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ion ex = new Exception("Error information can be found at: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.HelpLink = "http://www.CarsRUs.com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 ex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5392800"/>
            <a:ext cx="876312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Help Link: {0}", e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lpLin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48C-A97C-4D8E-A8E8-D8036A29029B}" type="slidenum">
              <a:t>18</a:t>
            </a:fld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11448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ata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85800"/>
            <a:ext cx="87631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ata property of System.Exception allows you to fill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xception object with relevant user-supplied information (such a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ime stamp or what  you hav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ata property returns an object implementing an interf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named IDictionary, defined in the System.Collection namesp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C26-58A4-47A8-90D8-C3D950919F07}" type="slidenum">
              <a:t>19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de to Errors, Bugs, and Ex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914400"/>
            <a:ext cx="86868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ug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rror on the part of the programmer. For example, assu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you are programming with unmanaged C++. If you make calls on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NULL pointer, overflow the bounds of an array, or fail to dele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llocated memory (resulting in a memory leak), you have a bu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rrors: 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ors are typically caused by the end user of 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lication, rather than by those who created appli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an end user who enters a malformed string into a tex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ox that requires a Social Security number could generate an er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ception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ptions are typically regarded as runti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nomalies that are difficult, to prevent. Possible exceptions inclu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ttempting to connect to a database that no longer exist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pening a corrupted file, or contacting a machine that is curren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ffl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A64-37FF-475B-A1D9-E44FF602A594}" type="slidenum">
              <a:t>2</a:t>
            </a:fld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8600"/>
            <a:ext cx="868680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Accelerate(int del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carIsDea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{0} is out of order...", petNam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urrSpeed += del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currSpeed &gt;= maxSpe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IsDead = tr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urrSpeed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We need to call the HelpLink property, thus we ne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to create a local variable before throwing the Exception objec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xception ex 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new Exception(string.Format("{0} has overheated!", petName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x.HelpLink = "http://www.CarsRUs.com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Stuff in custom data regarding the err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ex.Data.Add("TimeStamp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string.Format("The car exploded at {0}", DateTime.Now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ex.Data.Add("Cause", "You have a lead foot.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throw e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=&gt; CurrSpeed = {0}", currSpee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2E3-58DE-42E6-9153-2CEA0A5E7F06}" type="slidenum">
              <a:t>20</a:t>
            </a:fld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tch (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By default, the data field is empty, so check for n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-&gt; Custom Data: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f (e.Data != n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 (DictionaryEntry de in e.Da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{0}: {1}", </a:t>
            </a:r>
            <a:r>
              <a:rPr b="1" sz="2000" spc="-1" strike="noStrike">
                <a:solidFill>
                  <a:srgbClr val="cc3300"/>
                </a:solidFill>
                <a:latin typeface="Times New Roman"/>
              </a:rPr>
              <a:t>de.Key, de.Valu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3962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make use of the Key and Value properties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ctionaryEntry type to print the custom user data to the conso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367-E883-42E3-B5EC-4A1FF869E437}" type="slidenum">
              <a:t>21</a:t>
            </a:fld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304920"/>
            <a:ext cx="868680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a = 10, b = 5, c = 5, x, 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x = a / (b - c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tch (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Division by zero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y = a / (b + c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y=" + 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396-33A0-4F7D-A336-64AF356A79D9}" type="slidenum">
              <a:t>22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81080"/>
            <a:ext cx="868680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a = 10, b = 5, c = 5, x, 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xception ex = new Exception("Error info can be found at: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x.HelpLink = "Http://www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hs.com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row e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x = a / (b - c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tch (Exception 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Division by zero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class defining member : {0}", e.TargetSite.DeclaringTyp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Member type : {0}", e.TargetSite.MemberTyp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Member name : {0}", e.TargetSi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Message : {0}", e.Messag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Source : {0}", e.Sour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Stack : {0}", e.StackTra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Help Link : {0}", e.HelpLink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B4A-62EC-4A78-9C1A-8B30E4295C8C}" type="slidenum">
              <a:t>23</a:t>
            </a:fld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 System-Level Exceptions (System.SystemExcep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906480"/>
            <a:ext cx="87631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base class libraries already define a number of excep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 namespace defines numerous general exception typ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ch as ArgumentOutOfRangeExcepti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dexOutOfRangeException, StackOverflowException, and so 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ptions that are thrown by methods in the base class libraries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ystem excep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exceptions generally derive directly from a base class call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SystemException, which in turn derives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Excep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80A-1100-45E9-A38D-0166DC2372A8}" type="slidenum">
              <a:t>24</a:t>
            </a:fld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5228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ystemException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 Exception, ISerializ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ystemExcepti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ystemException(string messag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ystemException(string message, Exception innerException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HelpLink { virtual get; virtual s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Exception InnerException { virtual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Message { virtual get; virtual s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Source { virtual get; virtual s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StackTrace { virtual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MethodBase TargetSite {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bool Equals(object obj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Exception GetBaseExcepti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int GetHashCod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void getObjectData(SerializationInfo info, StreamingCo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contex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Type GetTyp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string ToString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13F-5FD9-4FAF-8A9F-DB604E1FA078}" type="slidenum">
              <a:t>25</a:t>
            </a:fld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52280"/>
            <a:ext cx="876312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 Application-Level Exceptions (System.ApplicationExcep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85800"/>
            <a:ext cx="883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urpose of System.SystemException is to identify the CL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xcep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base class library defines another System.Excep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rived type named System.ApplicationExcep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33C-7BD1-41C5-B702-5C9F22371E32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15228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ApplicationException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 Exception,ISerializ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ApplicationExcepti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ApplicationException(string messag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ApplicationException(string message, Exception innerException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HelpLink { virtual get; virtual s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Exception InnerException {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Message { virtual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Source { virtual get; virtual s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StackTrace { virtual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MethodBase TargetSite {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bool Equals(object obj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Exception GetBaseExcepti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int GetHashCod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vo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GetObjectData(SerializationInfo info, StreamingContext contex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Type GetTyp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string ToString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C85-99BD-45DC-BD22-5B1D9E884CAE}" type="slidenum">
              <a:t>27</a:t>
            </a:fld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Custom Exceptions,Take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673200"/>
            <a:ext cx="8839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sometimes advantageous to build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rongly typed excep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presents the unique details of our current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step is to derive a new class fro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System.ApplicationEx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590920"/>
            <a:ext cx="8763120" cy="1069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custom exception describes the details of the car-is-dead condi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CarIsDeadException : ApplicationEx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733920"/>
            <a:ext cx="8763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any class, we are free to include any custom properti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, or fields that can be used from within the catch block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alling log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lso free to override any virtual members defined by ou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rent cla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C30-318E-4C0F-AC5F-293F8A066538}" type="slidenum">
              <a:t>28</a:t>
            </a:fld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280" y="76320"/>
            <a:ext cx="868680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IsDeadException : ApplicationExc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string messageDetai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arIsDeadException() 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arIsDeadException(string mess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essageDetails = messag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Override the Exception.Message proper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override string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string.Format("Car Error Message: {0}", messageDetail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77C-3F46-4D51-A941-AE9D58DEB154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le of .NET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7631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platform provides exactl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n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que to send and tra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untime errors: structured exception handling (SE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auty of this approach is that developers now have a well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defined approach to error handling, which is common to 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languages used in the .N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the way in which a C# programmer handles errors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onceptually similar to that of a VB .NET programmer, and a C++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programmer using managed extensions (MC++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an added bonus, the syntax used to throw and catch excep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cross assemblies and machine boundaries is ident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361-57F1-438E-AB08-4F995BFBBA0D}" type="slidenum">
              <a:t>3</a:t>
            </a:fld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228600"/>
            <a:ext cx="868680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hrow the custom CarIsDead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Accelerate(int de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IsDeadException ex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ew CarIsDeadException(string.Format("{0} has overheated!", petName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x.HelpLink = "http://www.CarsRUs.com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x.Data.Add("TimeStamp",string.Format("The car exploded at {0}", DateTime.Now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x.Data.Add("Cause", "You have a lead foot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hrow e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886200"/>
            <a:ext cx="861048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Process incoming 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87A-2E89-44F5-8FAD-44F89420C2F1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Custom Exceptions, Take Tw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048120"/>
            <a:ext cx="8763120" cy="192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CarIsDeadException : ApplicationEx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arIsDeadException(){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arIsDeadException(string message):base(message){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762120"/>
            <a:ext cx="86868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urrent CarIsDeadException type has overridde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Exception.Message property in order to configure a cust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rror messag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implify our programming tasks if we set the parent’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ssage property via an incoming constructor parame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E04-3933-40EC-AE3C-BE849302EE14}" type="slidenum">
              <a:t>31</a:t>
            </a:fld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152280"/>
            <a:ext cx="8763120" cy="3813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 del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carIsDe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ass pet name and message as ctor arg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 new CarIsDeadException(this.petName + " has bought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rm!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// Not dead, speed 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038480"/>
            <a:ext cx="8763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we hav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d a private string to hold the pet name,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av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ridden the Message proper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wish to throw an exception of this type, you would se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 all necessary information as a constructor argu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048-3CE4-4F60-A40D-5DD348B8224C}" type="slidenum">
              <a:t>32</a:t>
            </a:fld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Custom Exceptions, Take T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76212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xceptions can be categorized as system-level or application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evel typ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ish to clearly mark the fact that the CarIsDeadException i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 thrown by the application itself, we are free to retrofit the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tion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819520"/>
            <a:ext cx="861048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IsDeadException 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Exc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onstructors for this custom exce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arIsDeadException()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arIsDeadException(string message) : base(message)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arIsDeadException(string message, Exception innerE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ase(message, innerEx)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8E9-B54E-43ED-9E9D-E712547031FE}" type="slidenum">
              <a:t>33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ndling Multiple 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762120"/>
            <a:ext cx="8686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its simplest form, a try block has a single catch blo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reality, we often run into a situation where the code within a t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lock could trigger numerous possible excep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362320"/>
            <a:ext cx="8763120" cy="4025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est for bad parame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t de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Bad param? Throw system supplied excep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delta &lt;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ArgumentOutOfRangeException("Speed must be greater than zero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carIsD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row 'Car is dead' application 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CarIsDeadException(this.petName + " has bought the farm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4A72-AF7A-4277-8F14-19C8F39FECC2}" type="slidenum">
              <a:t>34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152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alling logic would look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69960"/>
            <a:ext cx="8763120" cy="5306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Here, we are on the lookout for multiple excep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ar.Accelerate(1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rocess CarIsDead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(ArgumentOutOfRangeException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rocess ArgumentOutOfRange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5E3-D53E-4132-88C6-1393412CDECA}" type="slidenum">
              <a:t>35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76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are constructing multiple catch blocks for a single t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lock, we must be aware that when an exception is thrown, it wi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e processed by the "nearest available" cat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365120"/>
            <a:ext cx="8610480" cy="4995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/ This code will not compile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Car.Accelerate(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/ Process all other exception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/ Process CarIsDeadExcep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ch(ArgumentOutOfRangeException 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/ Process ArgumentOutOfRangeExcep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exception handling logic generates compile-time err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84F-C8D4-4641-B1AF-A7FDC86AB323}" type="slidenum">
              <a:t>36</a:t>
            </a:fld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152280"/>
            <a:ext cx="868680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blem is that the first catch block can handl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ything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ived from System.Exception, including the CarIsDeadExcep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ArgumentOutOfRangeException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ce, the final two catch blocks are unreach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ule to keep in mind is that make sure our catch blocks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uctured such that the very first catch is the most specif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ception while the final catch is the most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312408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Car.Accelerate(1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ArgumentOutOfRange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Exception e) // This will handle any other exce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3FA-482E-48A1-AF7D-7416A5989904}" type="slidenum">
              <a:t>37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ic Catch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also supports a generic catch block that does not explicitly def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type of exception. Thus, we could implement a catch block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133720"/>
            <a:ext cx="86868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 handle any possible error thrown from a try bl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Something bad happened..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962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not the most descriptive manner in which to handle runti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ceptions, because we have no way to obtain meaningfu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formation about the error that occur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D86-BBE3-42F1-B5CE-88F161BA31B3}" type="slidenum">
              <a:t>38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hrowing 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762120"/>
            <a:ext cx="87631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permissible to "rethrow" an error up the call stack 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evious call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simply make use of the "throw" keyword within a cat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lock. This passes the exception up the chain of calling log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51460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peed up car logic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Do any partial processing of this error and pass the bu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Here, we are rethrowing the CarIsDeadException ty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However, you are also free to throw a different exception if need 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 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7B2-A1A6-4E39-84F3-19790003B69E}" type="slidenum">
              <a:t>39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toms of .NET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914400"/>
            <a:ext cx="8686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ming with structured exception handling involves the use of four key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ype that represents the details of the exceptional circum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thod th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row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xception to the ca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block of code that will invoke the exception-ready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block of code that will process (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the excep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programming language offers four keywords ("try"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catch", "throw", and "finally") that allow us to throw and hand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cep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6F9-E598-4F43-921F-886C49EBC7BF}" type="slidenum">
              <a:t>4</a:t>
            </a:fld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nally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52704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a behind a finally block is to ensure that a block of code wi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lway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e, even if an exception (of any type) interferes with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ormal flow of exec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752480"/>
            <a:ext cx="8534520" cy="501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Try to rev the engine hard!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Speed up car logic 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atch(ArgumentOutOfRangeException 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This will always occur. Exception or no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ycar.CrankTunes(fals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0AF-6CAD-4E38-9B73-333EAEE1094D}" type="slidenum">
              <a:t>40</a:t>
            </a:fld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152280"/>
            <a:ext cx="8763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did not include a finally block, the radio would not be turn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f if an exception is encounte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 more real-world scenario, when we need to dispose of object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ose a file, detach from a database , a finally bloc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sures a location for proper clean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71D-99CF-44F0-BFD5-1D099A26843C}" type="slidenum">
              <a:t>41</a:t>
            </a:fld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763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ast Chance Ex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762120"/>
            <a:ext cx="883944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NET exceptions cannot be igno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obvious question that may be on your mind is what wou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happen if you do not handle an exception thrown your dir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sult of ignoring the generated error would be high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structive to the end user of the appl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what to do with the exception once you have trapped it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design issue based on the current pro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imply dump the custom message and call stack 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so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re realistic scenario may include freeing up acquired resourc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r writing to a log fi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0D6-E8AB-4ACB-8295-D3B57323EC31}" type="slidenum">
              <a:t>42</a:t>
            </a:fld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152280"/>
            <a:ext cx="876312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namically Identifying Application- and System-Level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53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we wish to generalize our catch blocks in such a way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l applicationlevel exceptions are handled apart from possib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-level excep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752480"/>
            <a:ext cx="8763120" cy="496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This time, make things a bit more gene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ar.SpeedUp(1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Any type derived from System.ApplicationException  handled 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ch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Excep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aught an app exception!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ethod: {0}", e.TargetSi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essage: {0}", e.Messag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Any type derived from System.SystemException  handled 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ch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Excep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aught a system-level exception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ethod: {0}", e.TargetSi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essage: {0}", e.Messag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7D4-8C62-4941-ADC3-3F986AB7F2B8}" type="slidenum">
              <a:t>43</a:t>
            </a:fld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920" y="1522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Object Life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838080"/>
            <a:ext cx="8763120" cy="55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C++, C# programmers never directly deallocate an object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objects are allocated onto a region of memory ter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naged hea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here they will be automatically deallocated 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runtime at "some time in the future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user has to just allocate an object onto to the managed heap u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new keyword, and the forget the 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"new-ed," the CLR removes the object when it is no long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ed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question: How does the runtime determine when an objec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no longer needed"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hort answer is that the runtime removes an object from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 when it is unreachable by the current appl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4B8-39C4-4F60-A2FE-294A79C20D2B}" type="slidenum">
              <a:t>44</a:t>
            </a:fld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304920"/>
            <a:ext cx="868680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reate a local Car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lace an object onto the managed he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c = new Car("Viper", 200, 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// If c is the only reference to the Car object,  i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destroyed when Main() ex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124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the application shuts down, this reference is no longer valid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therefore is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ndidat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garbage coll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276-BDBE-4B90-BE7F-66D2BC023D32}" type="slidenum">
              <a:t>45</a:t>
            </a:fld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" y="763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IL of "new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480"/>
            <a:ext cx="87631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C# compiler encounters the "new" keyword, it will emit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IL "newobj“ instruction to the code mod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open up an assembly using ildasm.exe, we  find the CIL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, understand that the managed heap is more than just a ra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hunk of memory accessed by the CL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garbage collector is quite a tidy housekeeper, given that 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ll compact empty blocks of memory for purposes of optim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help this, the managed heap maintains a pointer that identif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actly where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x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will be placed on the heap itself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0B5-A183-4D5D-87F3-B070BE191089}" type="slidenum">
              <a:t>46</a:t>
            </a:fld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152280"/>
            <a:ext cx="868680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things being said, the newobj instruction informs the CLR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erform the following sequence of ev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te the total amount of memory required for the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be allocated. If this object contains other internal objects, the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e also counted into the equation. As well, the memo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quired for each base class is also taken into accou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then examines the managed heap to ensure that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 indeed enough room to host the object to be allocated. If so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type's constructor is called, and the caller is returned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to the type in memory, which just happens to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dentical to the last position of the new object poin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ly, before returning the reference to the caller, the CL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ll advance the new object pointer to point to the next availab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lot on the managed h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CCA-8791-43F4-A932-6335C7431E7C}" type="slidenum">
              <a:t>47</a:t>
            </a:fld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772400" cy="2692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0880" y="3352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details of allocating objects onto the managed he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7AE-AD64-48F4-856B-BDB3208EEC4C}" type="slidenum">
              <a:t>48</a:t>
            </a:fld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sics of Garbage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762120"/>
            <a:ext cx="86104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naged heap does not have sufficient memory to allocat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w object, a garbage collection will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at the CLR performs a garbage collection, &amp;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question is how the runtime is able to determine an object o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 is "no longer needed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understand the details, we need to be aware of the notion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ication roo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ot can be understood as a variable in our application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oints to some area of memory on the managed h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980-5646-436C-9651-3D7A3E3F6A5A}" type="slidenum">
              <a:t>49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ystem.Exception Bas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493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system-supplied and custom exceptions ultimately derive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System.Exception bas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0880" y="617220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e Members of the System.Exception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7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BF3-C9A2-4E7C-8F67-D7D761EC4B63}" type="slidenum">
              <a:t>5</a:t>
            </a:fld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228600"/>
            <a:ext cx="86868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ot can fall into any of the following categor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 to global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 to static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 to local objects within a given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 to object parameters passed into a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CPU register that references a local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ing a garbage collection process, the runtime will investigate 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s on the managed heap to determine if it is still in use i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l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the CLR will build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bject graph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repres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ach reachable object on the hea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the garbage collector determines that a given root is no long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ed by a given application, the object is marked for ter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945-E2AF-4B9E-8DCB-95131D2D7D95}" type="slidenum">
              <a:t>50</a:t>
            </a:fld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22860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the objects have been swept from memory, the memory o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 is compa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ill cause the CLR to modify the set of application root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 to the correct memory 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ly, the new object pointer is readjusted to point to the nex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vailable sl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4275000" cy="2592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4114800" cy="1785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52480" y="5867280"/>
            <a:ext cx="1676520" cy="376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257800" y="5029200"/>
            <a:ext cx="34545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6DC-CEA8-4F4F-916F-058F93532F8D}" type="slidenum">
              <a:t>51</a:t>
            </a:fld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600" y="5076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izing 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571680"/>
            <a:ext cx="88394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garbage collection scheme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ndeterministi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n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this approach to memory management can simplify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ding to some levels, but sometimes the objects possibly holds o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managed resourc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er than necessa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build .NET types that interact with unmanaged resourc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wish to ensure that this resource is released in a   timely mann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ather than by the .NET garbage coll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uch situations, one choice we have is to overrid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irtual System.Object.Finalize() meth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have a type that has acquired various unmanag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sources, then we wish to support a custom vers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Object.Finalize() to ensure proper cleanup of the inter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managed resour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9B3-03E7-48DC-BD7D-B0D1B28B369F}" type="slidenum">
              <a:t>52</a:t>
            </a:fld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76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the  C# language does not allow us to directly overrid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nalize() method using standard C# syntax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219320"/>
            <a:ext cx="861048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Finalized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mpile time err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 override void Finalize()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819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her, when we have to configure our custom C# class type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verride the Finalize() method, we make use of the follow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structor syntax to achieve the same 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4038480"/>
            <a:ext cx="8610480" cy="269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is Car overrides System.Object.Finalize(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nalized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FinalizedCa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=&gt; Finalizing car..."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4D9-F425-49A4-9C16-A6D81726A448}" type="slidenum">
              <a:t>53</a:t>
            </a:fld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228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destructor-style syntax can be understood as a shorth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otation for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127160"/>
            <a:ext cx="861048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 override void Finaliz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=&gt; Finalizing car..."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.Finalize(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603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c# classes make use of unmanaged resources that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ically obtained by directly calling into the Win32 API, the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ustom implementation of Finalize() method can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24B-A536-48CE-BA1A-45B9D9DB8A53}" type="slidenum">
              <a:t>54</a:t>
            </a:fld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directly) Invoking System.Object.Finaliz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685800"/>
            <a:ext cx="87631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runtime will trigger a garbage collection when it requir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ore memory than is currently available on the managed h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have created an application that is intended to run for length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eriods of time (such as a background service), garbage collec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occur over the course  of  the application's life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important to note that finalization will automatically take pl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en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ication doma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unloaded by the CL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le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n AppDomain is unloaded, the Finalize() method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voked for all finalizable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038-70F5-45ED-8C82-7BB1A9F9B4D5}" type="slidenum">
              <a:t>55</a:t>
            </a:fld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8600" y="228600"/>
            <a:ext cx="868680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SimpleFina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nalized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FinalizedCa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Console.WriteLine("=&gt; Finalizing car..."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nalize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***** Making object 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izedCar fc = new FinalizedCa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***** Exiting main 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743200" y="4724280"/>
            <a:ext cx="4800600" cy="20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8EC-7C3D-4DCC-BA20-B18718C8DA7D}" type="slidenum">
              <a:t>56</a:t>
            </a:fld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inaliza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762120"/>
            <a:ext cx="883944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le of a finalizer is to ensure that a .NET object can clean u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managed resour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if we are building a type that does not make us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managed entities, finalization is of little 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actical reason to avoid supporting a finalize method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nalization takes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place an object onto the managed heap using 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ne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perator, the runtime automatically determines if our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orts a custom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inalize(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th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so, the object is marked a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inaliz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a pointer to this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 stored on an internal queue, named as finalization que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710-A5DF-49C5-A441-DB4555EE9A8B}" type="slidenum">
              <a:t>57</a:t>
            </a:fld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152280"/>
            <a:ext cx="868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garbage collector determines it is time to free an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rom memory, then it examines each entry in the finalization queu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copies the object from the heap to another CLR- manag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ucture termed the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finalization reachabl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this point, a separate thread is spawned to invoke 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inalize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for each object on the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finalization reach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able a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xt garbage collecti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98C-F68A-4126-91A4-AE17E7CD5235}" type="slidenum">
              <a:t>58</a:t>
            </a:fld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an Ad Hoc Destruction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762120"/>
            <a:ext cx="87631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cess of finalizing an object is quite time consuming. Ideal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ne should design the objects in such a way that, they do not ne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be marked as finalizable in the first pl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type manipulates unmanaged resources, we need no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sure that they are released in a timely and predictable manner.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ort a C# destructor there are better w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alternative is to define a custom ad hoc method. This is call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spose(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th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ssumption is that when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bject us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finished u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type, it manually calls Dispose() before allowing the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to drop out of sco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our objects can perform any amount of cleanup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managed resources without waiting for the garbage collector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rigger the class' finalization log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D68-9194-4DB8-AD2A-0286B47E4D71}" type="slidenum">
              <a:t>59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implest Possible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838080"/>
            <a:ext cx="876312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TurnOn(bool 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Jamming..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Quiet time..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1B8-BCF0-49EB-A4AA-64128ECAC2BF}" type="slidenum">
              <a:t>6</a:t>
            </a:fld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8600" y="152280"/>
            <a:ext cx="8763120" cy="3644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Equipping our class with an ad hoc destruction meth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is is a custom method we except the object user to call manu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ispo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/* clean up your internal unmanaged resources.*/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9625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ame of this method is completely up to the user. Wh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spose() is a very common name, if we are building a class tha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ipulates a physical file, we may opt to call Close(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776-14CF-4B3F-86AE-E4A5D7A7C3F5}" type="slidenum">
              <a:t>60</a:t>
            </a:fld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5240" y="76320"/>
            <a:ext cx="89154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Disposable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335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provide symmetry among all objects that support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plicit destruction routine, the .NET class libraries define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 named IDispos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828800"/>
            <a:ext cx="8610480" cy="1789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ispos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ispos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683160"/>
            <a:ext cx="8763120" cy="283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Implementing IDispos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ar : IDispo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his is still a custom method we expect the object user to c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manu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Dispo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Clean up your internal unmanaged resour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E74-EEA6-4A72-9187-D092B70FFF94}" type="slidenum">
              <a:t>61</a:t>
            </a:fld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152280"/>
            <a:ext cx="8763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is approach, we provide the object user  a way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ually dispose of acquired resources as soon as possible,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void the overhead of being placed on the finalization queu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alling logic is straightforwa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965240"/>
            <a:ext cx="876312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Dispos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c1 = new Car("Car one", 40, 1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.Dispos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// C1 is still on the heap and may be collected at this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638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ways call Dispose() for any object, where we have manua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located to the h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CCB-BFF2-4228-82B9-B51DB9FDCAA4}" type="slidenum">
              <a:t>62</a:t>
            </a:fld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using the C# "using"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565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are handling a managed object that implem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Disposable, it will be quite common to make use of structur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ception hand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82880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ome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c = new Ca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// Use the car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// Catch any exceptions here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lways call Dispose(), error or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Dispos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0DA-6ED0-4121-B803-2A1A5584651F}" type="slidenum">
              <a:t>63</a:t>
            </a:fld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28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chieve the same result in a much less obtrusive manner,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orts a special bit of syntax that looks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914400"/>
            <a:ext cx="876312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ome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r c = new Car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Use the c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Dispose() is called automatically whe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using block ex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3873600"/>
            <a:ext cx="876312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are working with .NET types that support the IDisposab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nterface, this syntactical construct will ensure that the object "be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used" will automatically have its Dispose() method called onc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using block has exi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specify a type that does not implement IDisposable withi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ing declaration, you are issued a compile time er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DFE-6FB0-4D39-BD5C-CD8919346616}" type="slidenum">
              <a:t>64</a:t>
            </a:fld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6336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bage Collection Optim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685800"/>
            <a:ext cx="8763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CLR is attempting to locate unreachable objects, it do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erally walk ov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a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every object placed on the manag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 looking for orphaned roo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help optimize the collection process, each object on the heap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igned to a given "generation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a behind generations is simple: The longer an object h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isted on the heap, the more likely it is to stay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sely, objects that have been recently placed on the heap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ore likely to be dereferenced by the application  quick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D4B-CAB4-4FAB-A0A7-7A9E1B8785BE}" type="slidenum">
              <a:t>65</a:t>
            </a:fld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8600" y="152280"/>
            <a:ext cx="86868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ese assumptions, each object belongs to on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ing gener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Generation 0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s a newly allocated object that has nev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een marked for coll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Generation 1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s an object that has survived a garba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llection sw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Generation 2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s an object that has survived more than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weep of the garbage coll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collection occurs, the GC marks and sweeps all gener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objects first. If this results in the required amount of  memory,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emaining objects are promoted to the next available gen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ll generation 0 objects have been removed from the heap, b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ore memory is still necessary, generation 1 objects are marked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wept, followed (if necessary) by generation 2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2EA-D41C-43E3-A50C-96C518A41F45}" type="slidenum">
              <a:t>66</a:t>
            </a:fld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ystem.GC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ble to interact with the garbage collector using a bas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ibrary type, which in this case is System.G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D96-D198-4CD1-A45D-4FAAB292DE08}" type="slidenum">
              <a:t>67</a:t>
            </a:fld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Finalizable and Disposabl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8380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905120"/>
            <a:ext cx="8763120" cy="4757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Memory clean u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Car : IDispo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Car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lean up any internal unmanaged resouc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Dispo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lean up any internal resour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No need to finalize if user called Dispos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o suppress finaliz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C.SuppressFinalize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7680" y="53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 programmatic interaction with the .NET garbage collector, let's alter the automobile's destruction logic to support both an overridden Finalize() method as well as the IDisposable interfa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EB4-A5AF-48C3-8728-548AE4D854A4}" type="slidenum">
              <a:t>68</a:t>
            </a:fld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152280"/>
            <a:ext cx="87631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teration of the Car class supports both a C#-style destructor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ll as the IDisposable interf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, the Dispose() method has been altered to c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C.SuppressFinalize(), which informs the system that it should n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onger call the destructor for the specified object, as the end user h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ed Dispose(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200-E6E3-44CA-ACCA-0772E95EF9FB}" type="slidenum">
              <a:t>69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52280"/>
            <a:ext cx="868680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onstant for maximum spe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onst int maxSpeed = 1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nternal state d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int currSpe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string pet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s the car still operat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bool carIsDea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 car has-a ra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Radio theMusicBox = new Radi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onstruct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ar()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ar(string name, int currS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= currS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Name = 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CrankTunes(bool st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Delegate request to inner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usicBox.TurnOn(stat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208-0886-4849-A64D-7BB0F572D13B}" type="slidenum">
              <a:t>7</a:t>
            </a:fld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177840"/>
            <a:ext cx="8686800" cy="6311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Interacting with the G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GCA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dd these cars to the managed h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c1,c2, c3, c4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 = new Car("Car one", 40, 1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 = new Car("Car two", 70, 5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 = new Car("Car three", 200, 10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 = new Car("Car four", 140, 8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Manually dispose some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.Disp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.Disp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267-0BB6-4E3C-B86A-E363A16E4ACB}" type="slidenum">
              <a:t>70</a:t>
            </a:fld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of the Car types have been manually disposed by the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er, these types do not have their destructor logic triggered du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all to GC.SuppressFinalize(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ECC-CA1E-4A0C-83CE-07BE6BCA2E88}" type="slidenum">
              <a:t>71</a:t>
            </a:fld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8600" y="7632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ing a Garbage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685800"/>
            <a:ext cx="8839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ble to programmatically force the runtime to perform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arbage collection using the static GC.Collect() meth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we have an object-hungry application that is designed to ru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a lengthy amount of time. To trigger a garbage collection, w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uld write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2743200"/>
            <a:ext cx="868680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Force a garbage collection, and wait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each object to be final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C.Collec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C.WaitForPendingFinalizers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4419720"/>
            <a:ext cx="8839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 that we call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C.WaitForPendingFinalizers(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fter forcing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arbage collection cyc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it is assured that all finalizable objects have a cha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perform any necessary cleanup before continu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988-09BA-4318-A232-D4A59F4B3181}" type="slidenum">
              <a:t>72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304920"/>
            <a:ext cx="868680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ee if Car has overhe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Accelerate(int de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carIsD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{0} is out of order...", pet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+= delt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currSpeed &gt; maxSpe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{0} has overheated!"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sDead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=&gt; CurrSpeed = {0}", currSpee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A3A-677F-4A11-9984-6BB58E07B91F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228600"/>
            <a:ext cx="861048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***** Creating a car and stepping on it 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yCar = new Car("Zippy", 2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Car.CrankTunes(tr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Car.Accelerate(1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1AB-22C7-41CA-81B4-A0DCA2FA841C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25:55Z</dcterms:created>
  <dc:creator>Hemanth</dc:creator>
  <dc:description/>
  <dc:language>en-US</dc:language>
  <cp:lastModifiedBy>Hemanth</cp:lastModifiedBy>
  <dcterms:modified xsi:type="dcterms:W3CDTF">2012-10-15T16:29:23Z</dcterms:modified>
  <cp:revision>405</cp:revision>
  <dc:subject/>
  <dc:title>Exceptions and Object Lifetime</dc:title>
</cp:coreProperties>
</file>